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284-36A1-4BC7-8E35-FC8832D1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152-2880-4B71-B689-2CD2C552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743-CB9B-4024-ACC0-813F2642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EB5-674D-4CF4-9C8E-0880A2FC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36C7-197B-4118-8BF8-5C6720D9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15C9-79A4-4C32-B3D7-D00A402A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604E-6CD2-4B44-B523-75712260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26DC-5DC1-4055-BCD0-C27F9594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FC31-311C-42AB-B73F-1EAC1C33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B281-5CCE-4E16-A4C8-C1561549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62C1-8251-407F-8386-F5BB3475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6DB-B9A3-4578-B7F6-5E7CCF2C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7C92-4A64-45CD-83D1-185B4E61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FF37-FFB8-450A-BCE8-A7324AA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A796-1BD3-48CC-8901-A724CB9D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3F05-A35A-4A6E-B445-A87BEC01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12E4-59D4-471F-835F-486BEB1B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8B5-C607-4ED0-BD2C-660E1872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70E-0066-48BB-8133-20642BA9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553-4208-4899-9B62-14FFC2E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210-83F5-4EE9-B954-0836279F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092-3D00-4E4E-9C9D-3FCFBC8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BB2-30C1-4129-BB3A-884093DB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C74-022A-4960-B7AD-4F9D1F60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DA72-2890-4BF6-8A40-10B545E00F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BEC9-01FE-4464-A0E5-F2B4A8B1A5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__ Clase 6NH(602) 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23 de enero del 2013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ito # 34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practicamos los verbos de cambio rad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ga los siguientes verbos en forma de “BOT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orzar (to lun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olver (to retur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ntrar (to fi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ar (to rememb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ñar (to dre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O: Copia y comple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jercicio 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.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Verbos de cambio radical U</a:t>
            </a:r>
            <a:r>
              <a:rPr b="0" lang="en-US" sz="4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UE</a:t>
            </a:r>
            <a:br>
              <a:rPr sz="4000"/>
            </a:b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(Stem-changing verbs U</a:t>
            </a:r>
            <a:r>
              <a:rPr b="0" i="1" lang="en-US" sz="4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UE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verb J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play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anges to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ll forms EXCEP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endings are the same as the regular –AR verbs. TRY I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3429000"/>
          <a:ext cx="8915400" cy="1822320"/>
        </p:xfrm>
        <a:graphic>
          <a:graphicData uri="http://schemas.openxmlformats.org/drawingml/2006/table">
            <a:tbl>
              <a:tblPr/>
              <a:tblGrid>
                <a:gridCol w="2674800"/>
                <a:gridCol w="62406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</a:rPr>
                        <a:t>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81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3434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800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3824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4281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Jug</a:t>
            </a:r>
            <a:r>
              <a:rPr b="0" i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4724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886200"/>
            <a:ext cx="441972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648320" y="3886200"/>
            <a:ext cx="0" cy="99072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800600"/>
            <a:ext cx="4495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067680" y="480060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5257800"/>
            <a:ext cx="88390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8600" y="3886200"/>
            <a:ext cx="0" cy="13716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5334120"/>
            <a:ext cx="472464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jercici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jercicio 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.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jercicio 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. 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657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area #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070600"/>
            <a:ext cx="82296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BO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a p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a p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8:05:49Z</dcterms:created>
  <dc:creator>Helen Zumaeta</dc:creator>
  <dc:description/>
  <dc:language>en-US</dc:language>
  <cp:lastModifiedBy>Helen Zumaeta</cp:lastModifiedBy>
  <dcterms:modified xsi:type="dcterms:W3CDTF">2013-01-23T19:20:28Z</dcterms:modified>
  <cp:revision>6</cp:revision>
  <dc:subject/>
  <dc:title>Me llamo ___________ Clase 6NH La fecha es el 11 de junio del 2012</dc:title>
</cp:coreProperties>
</file>